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78EF-A8C2-4F9A-B878-ED83823A8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C072-9AFF-4BA2-B36D-1D90058D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F1FE-9791-4792-BAEB-784B40236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C00E-CACC-416A-8CCA-F2C17003C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8D52C-074B-48E2-A1A6-7C6C1DCB1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90FC5-63B0-434A-BB7C-4C045E7F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F4623-A32A-42DE-9FF3-2C3FDE9D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FCC77-CAEB-4FC7-9D04-728DE12B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1404D-1DB8-4CA8-A5A3-60AF7554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0651-F60F-455D-ADF8-5C937FF5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17B08-4C77-47E3-AA6B-D2168EC9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E10B-34A0-4233-A04C-0BCA5FCD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67A6-4F5D-40F9-BF59-5050DC85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E285-FD5E-4E0D-814A-46A15773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F188-1B99-4B17-989D-776A97BE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1A16-C52B-4DDC-8280-F3CF3F883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5BC4-6CC8-4D1A-AB4F-D69CFE7EC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F802-53A1-430E-9024-0E333FD9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3FE6-DC9A-46C4-9D77-6B60EF92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8FA6-3941-4566-B516-4303B249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B939-9AF1-43AE-99E4-410801FA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CCA4-C019-4033-862D-193A3748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8335-B3BD-4E70-85EE-F1B5CE75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E54D-41C8-4989-B88A-23C18AD1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1010D-761D-4EF9-9788-DFC5D8E51C5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C231-F9C5-4A0D-A26B-575214431B0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ASADY DYNAMIKI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NEWTON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7960" y="5334120"/>
            <a:ext cx="4012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r Dorota Szczerbet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72000" y="834120"/>
            <a:ext cx="7475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 zasada dynamiki Newton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9246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 zasada dynamiki Newtona</a:t>
            </a:r>
            <a:br>
              <a:rPr sz="32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żeli na ciało działa niezrównoważona siła, to porusza się ono ruchem zmiennym           z przyspieszeniem wprost proporcjonalnym do działającej siły. Przyspieszenie ciała,     na które działa stała niezrównoważona siła, jest tym mniejsze, im większa jest jego ma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 = m ∙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ka jest podstawowa jednostka siły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76932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ednostką siły jest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1 niuton (1 N).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finiuje się ja na podstawie II zasady dynamiki Newto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[F] = 1kg∙1m/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= 1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1N to siła, która ciału o masie 1 kg nadaje przyspieszenie 1m/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wobodne spadanie cia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77400" y="2514240"/>
            <a:ext cx="7550280" cy="35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iała spadające swobodnie na Ziemię poruszają się ruchem jednostajnie przyspieszony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zas swobodnego spadania ciała nie zależy od jego mas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yspieszenie, z jakim porusza się ciało spadające swobodnie na Ziemię to przyspieszenie ziemskie (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). Wynosi ono około 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9,81 m/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 II zasady dynamiki mamy: 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F = m ∙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waga!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76932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zadaniach, w celu ułatwienia obliczeń, często przyjmuje się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10 m/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yspieszenie ziemskie nie jest takie samo             w każdym punkcie Ziemi – wynosi od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9,78 m/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 na równiku do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9,83 m/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na biegunach.                     W Polsce ma wartość około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9,81 m/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 Księżycu przyspieszenie, z jakim spadają swobodnie ciała jest około sześć razy mniejsze     niż na Zie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29440" y="121032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bliografia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62120" y="251460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.Francuz – Ornat, T.Kulawik, M.Nowotny – Różańska,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Spotkania z fizyką, podręcznik dla gimnazjum, część 3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Nowa Era, Warszawa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ttps://www.googl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31T21:46:26Z</dcterms:created>
  <dc:creator>admin</dc:creator>
  <dc:description/>
  <dc:language>en-US</dc:language>
  <cp:lastModifiedBy>Badyl</cp:lastModifiedBy>
  <dcterms:modified xsi:type="dcterms:W3CDTF">2014-04-28T12:55:46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